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DCC-2A7E-4F91-AB44-B375B832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850-9815-4E10-B87A-D38C9E2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376-8D23-47E6-B8E5-4865A1C9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BB3-804B-4879-831F-CB3C1F09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AF2-6E7A-4C9B-8E1F-14BFAE6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17B-4EDC-4EAB-8C75-8BF39EF9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39C-0721-4F15-82B7-41FA2E9B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432-1AD7-4AE3-80D4-01956AC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8E5-FB40-447B-BCEE-D9A6E7F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968-D34E-42C4-92EF-F021A15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EF8-081B-4054-9A4F-ACB150CA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687-135F-496C-A65E-713D26D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A531-7C43-47AD-9162-8B9590E8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ительское собр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Ь К УСПЕ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 из 9"/>
          <p:cNvPicPr/>
          <p:nvPr/>
        </p:nvPicPr>
        <p:blipFill>
          <a:blip r:embed="rId1"/>
          <a:stretch/>
        </p:blipFill>
        <p:spPr>
          <a:xfrm>
            <a:off x="324000" y="260280"/>
            <a:ext cx="4752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чества родителей, способных воспитать успешного уче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Способность выявить возможности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мение создавать условия для всестороннего развития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Терпимость к своему ребё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Способность быть прим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Умение поощрять, корректировать и тактично направлять действия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Быть в контакте с социумом ребёнка (школа, друзья, знакомые, учителя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цепт воспитания успешного ученик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зьмите         Терпения, влейте туда полное          Любви, бросьте две пригоршни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Щедр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лесните туда же </a:t>
            </a: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Юмо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посыпьте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Доброт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добавьте как можно больше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Вер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Надежд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всё хорошо перемешайте. Затем полученный состав положите на отрезок отведенной вам жизни и щедро делитесь со всеми окружающими вас людь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Red Hearts Holidays Desktop Hd Cool Tattoos"/>
          <p:cNvPicPr/>
          <p:nvPr/>
        </p:nvPicPr>
        <p:blipFill>
          <a:blip r:embed="rId2"/>
          <a:stretch/>
        </p:blipFill>
        <p:spPr>
          <a:xfrm>
            <a:off x="2484360" y="2060640"/>
            <a:ext cx="1008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58920" y="2276640"/>
            <a:ext cx="8785080" cy="23032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росайте своих детей, поставьте реальную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гите им взобраться на вершину успех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10 класс"/>
          <p:cNvPicPr/>
          <p:nvPr/>
        </p:nvPicPr>
        <p:blipFill>
          <a:blip r:embed="rId1"/>
          <a:stretch/>
        </p:blipFill>
        <p:spPr>
          <a:xfrm>
            <a:off x="324000" y="4221000"/>
            <a:ext cx="2520720" cy="215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2829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ник – учитель – род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Лента записей из дневника блогера CrazyLog.co.ua. Страница 45 :: BlogRider.ru"/>
          <p:cNvPicPr/>
          <p:nvPr/>
        </p:nvPicPr>
        <p:blipFill>
          <a:blip r:embed="rId1"/>
          <a:stretch/>
        </p:blipFill>
        <p:spPr>
          <a:xfrm>
            <a:off x="1116000" y="1700280"/>
            <a:ext cx="5977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питание – дело трудное, и улучшение его условий – одна из священных обязанностей каждого человека, ибо нет ничего более важного, как образование самого себя и своих ближних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624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ите фраз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Мой ребенок...»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708280"/>
          <a:ext cx="8229600" cy="3417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41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е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невнимателен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30480" cy="1411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88000" y="3573360"/>
            <a:ext cx="2305080" cy="289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440" y="1556640"/>
            <a:ext cx="6526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-я — те, которые вас устраивают в вашем ребен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133000"/>
            <a:ext cx="6131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-я — те, которые вы бы хотели изменить в 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427120" y="2009880"/>
            <a:ext cx="4240440" cy="3671280"/>
            <a:chOff x="2427120" y="2009880"/>
            <a:chExt cx="4240440" cy="3671280"/>
          </a:xfrm>
        </p:grpSpPr>
        <p:sp>
          <p:nvSpPr>
            <p:cNvPr id="58" name="_s38920"/>
            <p:cNvSpPr/>
            <p:nvPr/>
          </p:nvSpPr>
          <p:spPr>
            <a:xfrm flipV="1">
              <a:off x="3840120" y="2009880"/>
              <a:ext cx="1414440" cy="1224000"/>
            </a:xfrm>
            <a:custGeom>
              <a:avLst/>
              <a:gdLst>
                <a:gd name="textAreaLeft" fmla="*/ 507600 w 1414440"/>
                <a:gd name="textAreaRight" fmla="*/ 906840 w 1414440"/>
                <a:gd name="textAreaTop" fmla="*/ 439200 h 1224000"/>
                <a:gd name="textAreaBottom" fmla="*/ 78480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амые лучш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ачественные тов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8921"/>
            <p:cNvSpPr/>
            <p:nvPr/>
          </p:nvSpPr>
          <p:spPr>
            <a:xfrm flipV="1">
              <a:off x="3133800" y="3233880"/>
              <a:ext cx="2827440" cy="1224000"/>
            </a:xfrm>
            <a:custGeom>
              <a:avLst/>
              <a:gdLst>
                <a:gd name="textAreaLeft" fmla="*/ 621720 w 2827440"/>
                <a:gd name="textAreaRight" fmla="*/ 2205720 w 2827440"/>
                <a:gd name="textAreaTop" fmla="*/ 268920 h 1224000"/>
                <a:gd name="textAreaBottom" fmla="*/ 9550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бычные товары средней цен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 кач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8922"/>
            <p:cNvSpPr/>
            <p:nvPr/>
          </p:nvSpPr>
          <p:spPr>
            <a:xfrm flipV="1">
              <a:off x="2427120" y="4457160"/>
              <a:ext cx="4240440" cy="1223640"/>
            </a:xfrm>
            <a:custGeom>
              <a:avLst/>
              <a:gdLst>
                <a:gd name="textAreaLeft" fmla="*/ 736200 w 4240440"/>
                <a:gd name="textAreaRight" fmla="*/ 3504240 w 4240440"/>
                <a:gd name="textAreaTop" fmla="*/ 212400 h 1223640"/>
                <a:gd name="textAreaBottom" fmla="*/ 101124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 заведомым браком, низкого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6000" y="260280"/>
            <a:ext cx="3168720" cy="24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438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поведь дл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родителей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терпимости, он учится понимать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хвалят, он учится быть благород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растет в безопасности, он учится верить в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ка поддерживают, он учится ценить себ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ребенок живет в понимании и дружелюбии, он учится находить любовь в этом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D00019_"/>
          <p:cNvPicPr/>
          <p:nvPr/>
        </p:nvPicPr>
        <p:blipFill>
          <a:blip r:embed="rId1"/>
          <a:stretch/>
        </p:blipFill>
        <p:spPr>
          <a:xfrm>
            <a:off x="6300720" y="260280"/>
            <a:ext cx="20322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Успех- это умение добиваться поставленных целей, получая от этого удовольств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нно эффективное  приме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ний и умений делает ученика успеш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Картинка 1 из 9"/>
          <p:cNvPicPr/>
          <p:nvPr/>
        </p:nvPicPr>
        <p:blipFill>
          <a:blip r:embed="rId1"/>
          <a:stretch/>
        </p:blipFill>
        <p:spPr>
          <a:xfrm>
            <a:off x="3780000" y="1700280"/>
            <a:ext cx="5184720" cy="47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9640" y="443700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Что необходимо родителям и учителям, чтобы воспитать успешного уче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ими качествами должны обладать  учителя, чтобы воспитать успешного ученика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Фото на тему 6класс по математике смешные истории. - 22 Января 2014 - Blog - Mobirostov"/>
          <p:cNvPicPr/>
          <p:nvPr/>
        </p:nvPicPr>
        <p:blipFill>
          <a:blip r:embed="rId1"/>
          <a:stretch/>
        </p:blipFill>
        <p:spPr>
          <a:xfrm>
            <a:off x="539640" y="1413000"/>
            <a:ext cx="403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необходимо  учителю, чтобы создать успешного уче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Чётко управлять учебным процессом и внеурочной деятельностью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Хорошо знать и любить свой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Уметь терпеть, сдерживаться, не раздражаться, ждать, когда ученики будут делать так, как он планирует. Учить, предпочитая тёплое, человеческое общение с уче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Быть всегда организованным, собранным, активным, энергичным, подготовленным к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Считать своей главной задачей внимание к личности ученика, обеспечение его индивидуального развития, обуче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Владеть образовательными технологиями, уметь объяснять, спрашивать, организовывать работу учеников, применяя разные мет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7:57:39Z</dcterms:created>
  <dc:creator>Admin</dc:creator>
  <dc:description/>
  <dc:language>en-US</dc:language>
  <cp:lastModifiedBy>сергей</cp:lastModifiedBy>
  <dcterms:modified xsi:type="dcterms:W3CDTF">2014-12-13T07:28:46Z</dcterms:modified>
  <cp:revision>11</cp:revision>
  <dc:subject/>
  <dc:title>Родительское собрание</dc:title>
</cp:coreProperties>
</file>